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687-FD6F-424B-8781-C93081DD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5A2-57B3-4DB0-BB08-7073AB6A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55B-DEFA-4D65-A68D-CDB2488F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8BF-EC10-4B66-946F-34ED3C12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A93-127E-449C-B868-6FFAD957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031-9134-48CA-BD0A-B3B23DDE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B8A-A9FB-4CDD-BB81-BCEAED3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D7B-F66A-4B5E-ABEF-63C8D74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96B-257B-4566-80DD-32FA4D9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CA0-C10F-4BE3-AA39-FAAAE5DE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EB7-95B1-4E87-800D-17960EE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389-4ABE-4E6A-892C-3E2E3012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3AC0-D669-40D1-A375-56E4122997B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OVANJE VIROV PITNE V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lava hrane na vodovarstvenih območ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men vode za živl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 zadnjih 100 letih se je poraba pitne (sladke) vode v svetu povečala za  šestkr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raščanje števila prebivalstva in grožnja klimatskih sprememb lahko ob neustreznem načinu uporabe in varovanja pitne vode pripelje do velike svetovne krize z v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skrbo s pitno vodo lahko ogrozi tudi naraščanje vsebnosti nevarnih snovi v vodi, kar vpliva na poslabševanje njene kakovosti ter primernosti razpoložljivih vodnih virov za uporab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dnostna naloga je odpravljanje škodljivih vplivov na vode in zagotavljanje vode primerne kakovosti za človeka in naravne ekosiste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oga kmetijstva pri ohranjanju čiste pitne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embno je, da pri kmetovanju ne onesnažujemo okolja, da ohranjamo biotsko raznovrstnost in tipično slovensko kraj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emben del varovanja okolja pri kmetijski pridelavi je varovanje virov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loveniji predstavlja glavnino pitne vode podzemna voda, ki pa je na intenzivnih kmetijskih površinah lahko precej izpostavljena onesnaženju zaradi uporabe gnojil in fitofarmacevtskih sredstev (FF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okolici zajetij pitne vode so določeno površino opredelili kot VVO na katerem velja poseben režim varovanja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VVO sta omejena gnojenje kmetijskih površin in raba FFS. Z upoštevanjem teh predpisov, daje kmetijstvo pomemben doprinos k varovanju vodnih viro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Ključno za varovanje vo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ne uporabljajo organska gnojil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omeji in nadzoruje uporaba dušičnih mineralnih gnoj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uporabljajo le tista FFS, ki ne predstavljajo nevarnosti za pitno vo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v čimvečji možni meri izvajajo tehnologije ekološkega kmetovan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sveščanje, informiranje, obveščanje javnosti oziroma vseh deležnikov v verigi uporabe in varovanja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40:07Z</dcterms:modified>
  <cp:revision>5</cp:revision>
  <dc:subject/>
  <dc:title>Diapozitiv 1</dc:title>
</cp:coreProperties>
</file>