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5DC-7FBE-472D-91E6-20E25D74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F14-774D-40B1-AEC6-ED7E3E07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FF4-595D-418E-A058-45C6E0EB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D7A-59D9-4307-A474-AC7D3615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057-8F1D-4C1E-B7CD-E3638E8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262-CF6D-4F77-9F66-7A20A4E3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4C3-0D76-4C67-B28B-79EBEC25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F6B-1BDC-468C-AE56-EFB7659F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9EB-6713-40BC-B5B2-5B05A593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E69-E23E-4B19-8CD0-8CECE65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7FE-AEF7-442F-A5F1-1E10EEFF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271-5DD9-40C2-A62B-3C0CDF1C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64D-35D4-4A81-A4FF-6426657C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800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707920"/>
            <a:ext cx="8569080" cy="9471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2752920"/>
            <a:ext cx="7634160" cy="4665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Za pripravo zajtrka se za kuhanje ter peko  </a:t>
            </a: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uporablja ener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Uporaba lokalne hrane ter domačih obnovljiv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energij pomeni tudi varovanje ok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Drva so tradicionalen domač obnovljiv vir energ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Tradicionalen zajtrk lahko pripravimo tudi s pomočjo ostalih domačih obnovljivih virov energ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2636640"/>
            <a:ext cx="8208720" cy="9471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2491920"/>
            <a:ext cx="8229600" cy="3961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Za prevoz hrane se uporablja ener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Ob nakupu hrane se redko vprašamo kje je bila hrana pridelana ter kakšno onesnaževanje povzročamo z nakupi sadja in zelenjave, ki se vozi na dolge razda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Tradicionalen zajtrk je pridelan </a:t>
            </a:r>
            <a:r>
              <a:rPr b="1" lang="sl-SI" sz="2000" spc="-1" strike="noStrike">
                <a:solidFill>
                  <a:srgbClr val="003300"/>
                </a:solidFill>
                <a:latin typeface="Arial"/>
              </a:rPr>
              <a:t>iz lokalno pridelane hrane</a:t>
            </a: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 iz pridelkov pridelanih doma ali v domačem okol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Sadje in zelenjava, ki se prevaža na velike razdalje, mora biti  utrgana ko je še zelena, ter obdelani z različnimi kemičnimi preparat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6840" cy="1336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60036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3300"/>
                </a:solidFill>
                <a:latin typeface="Arial"/>
              </a:rPr>
              <a:t>Tradicionalno je tudi lokalno</a:t>
            </a: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, tako iz vidika izvora hrane kot porabe energije za njeno pripra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V Sloveniji priraste letno okoli 4 m3 lesa na prebival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V kolikor bi ves les po uporabi v izdelkih reciklirali in na koncu skurili bi bilo to v toploti   primerljivo z okoli 1000 l kurilnega o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Slovenija je edina država v EU ki zaenkrat nima niti ene večje vetrne elektrar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Obnovljive vire energij moramo bolje izkoristi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2:59:05Z</dcterms:created>
  <dc:creator>Miha Koprivnikar</dc:creator>
  <dc:description/>
  <dc:language>en-US</dc:language>
  <cp:lastModifiedBy>MKGP</cp:lastModifiedBy>
  <dcterms:modified xsi:type="dcterms:W3CDTF">2011-10-18T08:50:09Z</dcterms:modified>
  <cp:revision>6</cp:revision>
  <dc:subject/>
  <dc:title>Diapozitiv 1</dc:title>
</cp:coreProperties>
</file>