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6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8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00A-9037-4969-9E1C-C998FF2A80E3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grada številke diapozitiva 3"/>
          <p:cNvSpPr/>
          <p:nvPr/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2AC9-1207-415B-A9B1-BF4A6940B8E9}" type="slidenum">
              <a:rPr b="0" lang="sl-SI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BAC-97B4-411F-88BB-DCB5C63C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9DC-FD5A-4DF8-971F-068CC6B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60C-6CCE-4F3B-AC8E-02A231C2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4AE-5010-4DC9-85C4-619D8DB7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C1A3-3BFB-40B1-AB11-31083BA8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772-D32B-433F-AC7A-A05793B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239-98DA-480F-8C9A-CFBA31C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9C20-3838-461A-92AE-7008F6D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7381-ECF6-4330-B0BC-52DB5456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5B7F-9640-429A-9133-E1BD12A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F56-15DF-4FAE-88BE-B1B6D72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2DB-19C2-4E8B-B187-076544E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5AC1-28AD-4A8A-A79F-710A8F13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F5B6-A0D4-4883-9A70-2B0AFC79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CFCC-459B-4348-9B69-C9DE378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9760-2CDB-46E4-8CBD-CEE7BC28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9D94-3813-4692-8214-E83131D4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D3B6-7535-4254-BD55-8F4701D9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40AF-9F2B-4D0D-95B0-75739F5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8C46-768A-4882-B033-8A6E1AF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327B-EA1A-4EA9-A693-37618505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E9A1-D597-4D34-B9AD-8DEE38F9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B43-4978-41B9-AEAB-3B10965C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2E35-8615-4981-A18E-1F939DCA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8415-22DA-4E86-833E-8C32E00C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F452-43D6-4855-8D6F-E2A8282A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CD59-A5CD-4A5A-829E-5C813964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CD10-CEC4-463A-9D31-9B2FF968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8048-0E0E-453C-B452-0781E83C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A415-261C-46AF-9D6F-9FF14A8D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AF7F2-A62E-4C07-B475-F75AD305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F6CD-B983-47B2-988B-0F699CE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B41C-2BCA-4F27-92A5-276A7693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CF2-1C62-4C6C-B854-75C6C2A2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8A80-5F32-41C5-867C-5FC3C63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E27C-F7EF-431F-A065-6A6FB96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BFC00-FAB3-45B1-950D-AC7FECD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C1B5-81DA-43D3-A683-3C90964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4F00-0E7E-4EF3-BC40-56AF075F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831A-BB63-4FB1-BE2D-C83E94F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E1E9A-0B81-424C-9EFB-4141062A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D0DA-93A9-4CD6-A4EF-25C8FC72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077D-C4A5-4507-A95E-B9C1B21C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67CF-394D-4C68-A939-2D09E912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6EA-5D2E-4ED2-B6C1-8F3B4F75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CE1C-ABE1-477D-BCE9-D594A96D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8D63-150D-4CEC-A711-83FA70CC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E4DB3-6072-4547-A464-3BE42809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AAF70-214E-469A-90EC-BB458C97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56C90-5467-42F9-BF10-20AB4012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CA0B-D4D7-4371-AAC5-AA5A7CB4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E45AD-3BFA-482B-A065-A2A23695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CA328-1236-4DD1-8D86-F630FD1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C3C1-A2F8-47B7-8790-AAE8C12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04459-72EB-4E29-856E-598AF316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4D9-2772-475A-9FF5-E155A7B7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875B-4DF5-49FF-A122-2B512D5B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2C1-1182-4AF6-B6F5-5E5BE198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FD4-7AA3-4279-8A5B-8D0CD7DB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B56-DC8A-4A07-9D01-5E4283B0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383E-25C0-4334-ABB5-C08619B26435}" type="slidenum">
              <a:rPr b="0" lang="sl-SI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013-DBD9-4C12-B0DF-0965BFC3CCF5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9a9a9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c7c7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93F-FBB9-469F-87E6-9759EBE57C77}" type="slidenum">
              <a:rPr b="0" lang="sl-SI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0334-67A1-448B-A9DA-C837B3CBCF8C}" type="slidenum">
              <a:rPr b="0" lang="sl-SI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B2F3-4CE5-4EB3-B800-31E713A69C04}" type="slidenum">
              <a:rPr b="0" lang="sl-SI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56760" y="3143160"/>
            <a:ext cx="8358120" cy="3376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VIDIKI ZDRAVE PREHRANE</a:t>
            </a: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S POUDARKOM NA ZAJTRK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ag. Matej Gregorič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Mojca Gabrijelčič Blenkuš, Vida Fajdiga Tu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Inštitut za varovanje zdravja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glava_z_logotipi (2)"/>
          <p:cNvPicPr/>
          <p:nvPr/>
        </p:nvPicPr>
        <p:blipFill>
          <a:blip r:embed="rId1"/>
          <a:stretch/>
        </p:blipFill>
        <p:spPr>
          <a:xfrm>
            <a:off x="1440" y="115920"/>
            <a:ext cx="9144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49636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ako dobri smo v zajtrkovan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3429000"/>
            <a:ext cx="82105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adostniki med vsemi obroki najpogosteje opuščajo zajtrk, med tednom še vedno nikoli ne zajtrkuje tretjina mladostnikov. Vzorec zajtrkovanja se ob koncu tedna znatno izboljša. Opuščanje zajtrka narašča s starostjo in je pogostejše med dekleti </a:t>
            </a:r>
            <a:r>
              <a:rPr b="0" lang="sl-SI" sz="1500" spc="-1" strike="noStrike">
                <a:solidFill>
                  <a:srgbClr val="000000"/>
                </a:solidFill>
                <a:latin typeface="Calibri"/>
              </a:rPr>
              <a:t>(HBSC, 2011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ravokotnik 1"/>
          <p:cNvSpPr/>
          <p:nvPr/>
        </p:nvSpPr>
        <p:spPr>
          <a:xfrm>
            <a:off x="611280" y="1690560"/>
            <a:ext cx="7705800" cy="1769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a od profesoric iz celjske regije je zapisala: </a:t>
            </a:r>
            <a:r>
              <a:rPr b="1" i="1" lang="sl-SI" sz="2200" spc="-1" strike="noStrike">
                <a:solidFill>
                  <a:srgbClr val="000000"/>
                </a:solidFill>
                <a:latin typeface="Calibri"/>
              </a:rPr>
              <a:t>»Pripravila in izpeljala sem kratko anketo v razredu o zajtrku. Tisti dan jih je zajtrkovalo le 15%. Pošastno! Nisem se niti zavedala, da je tako slabo…Saj ni čudno, da me prvo uro sploh ne morejo slediti…«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</a:rPr>
              <a:t>Zakaj je pomembno zajtrkovat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95320"/>
            <a:ext cx="5543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o jutru se dan pozna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Prazna vreča ne stoji pokonci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uj kot kralj, kosi kot princ 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aj kot berač…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Zajtrk pojej sam, kosilo deli s prijatelj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8000"/>
                </a:solidFill>
                <a:latin typeface="Comic Sans MS"/>
              </a:rPr>
              <a:t>večerjo pa daj sovražnikom…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808440" cy="2519640"/>
          </a:xfrm>
          <a:prstGeom prst="rect">
            <a:avLst/>
          </a:prstGeom>
          <a:ln w="0">
            <a:noFill/>
          </a:ln>
        </p:spPr>
      </p:pic>
      <p:sp>
        <p:nvSpPr>
          <p:cNvPr id="264" name="Pravokotnik 4"/>
          <p:cNvSpPr/>
          <p:nvPr/>
        </p:nvSpPr>
        <p:spPr>
          <a:xfrm>
            <a:off x="755640" y="5634000"/>
            <a:ext cx="7705800" cy="109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Energijo telo potrebuje takrat, ko bo delovalo. Najprimernejši del dneva, da si zagotovimo energijo je zagotovo jut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13880" y="5536800"/>
            <a:ext cx="73580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ozitivni učinki na zdravje so ugotovljeni že p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ajtrkovanju 4 do 5-krat na ted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572000" y="928800"/>
            <a:ext cx="4248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Z razvojno psihološkeg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pozornost, spomin in odzivni čas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zmožnost reševanja kompleksnih nalog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razpoložen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214200" y="981000"/>
            <a:ext cx="442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onstantia"/>
              </a:rPr>
              <a:t>S prehranskega vidika:</a:t>
            </a: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delovna storilnost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izboljša se kakovost zaužite hrane,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onstantia"/>
              </a:rPr>
              <a:t>zmanjša se nevarnost pomanjkanja beljakovin, vlaknin, kalcija, železa, magnezija, folne kisline, vitaminov skupine B.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5267160" y="4581360"/>
            <a:ext cx="2857680" cy="855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>
                <a:solidFill>
                  <a:srgbClr val="000000"/>
                </a:solidFill>
                <a:latin typeface="Arial"/>
              </a:rPr>
              <a:t>boljša zmožnost uče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wn Arrow 6"/>
          <p:cNvSpPr/>
          <p:nvPr/>
        </p:nvSpPr>
        <p:spPr>
          <a:xfrm>
            <a:off x="6357960" y="4005360"/>
            <a:ext cx="57132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4680" y="115560"/>
            <a:ext cx="84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Calibri"/>
              </a:rPr>
              <a:t>Zajtrk nam da moč in je hrana za možga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nosti rednega uživanje vseh priporočenih obrokov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13840" y="1928520"/>
            <a:ext cx="5699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 metabolizem, ugoden vpliv na raven krvnega sladkorja, posledično je tudi občutek sitosti boljš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ira bolj kakovostne prehrane preko dneva, ki je bogatejša z vlakninami in revnejša z maščobam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lažje vzdrževanje normalne telesne tež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6443640" y="2492280"/>
            <a:ext cx="205740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jpogostješi razlogi za opuščanje zajtrk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932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nja ura (“dijaki vozači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dolg spanec, ni apetita, slabost..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zgodaj ponujen in “premočan” premostitveni obrok - malica (združevanje zajtrka in malice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dvečne kalorije (bojazen, da bi se zredil/-a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obremenjenost in pomanjkanje ča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403848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Najpogostejše napake pri zajtrk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619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puščanje zajtrk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pravilno sestavljen zajtrk, ki ne zagotavljajo ustreznega ravnovesja vnešenih hrani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evisoka ali prenizka energijska vrednost obrok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Spremenljiv ritem zajtrkovanj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905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 u="sng">
                <a:solidFill>
                  <a:srgbClr val="000000"/>
                </a:solidFill>
                <a:uFillTx/>
                <a:latin typeface="Calibri"/>
              </a:rPr>
              <a:t>Kakšen je zdrav zajtrk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490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retežno sestavljen iz polnovrednih žitnih izdelkov (polnozrnati kruh, kaše..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v kombinaciji z beljakovinskim živilom (mlečni izdelki, pusti mesni izdelek…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 dodatkom zelenjave ali sadja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oziroma 100 % sok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0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2695320"/>
          </a:xfrm>
          <a:prstGeom prst="rect">
            <a:avLst/>
          </a:prstGeom>
          <a:ln w="0">
            <a:noFill/>
          </a:ln>
        </p:spPr>
      </p:pic>
      <p:sp>
        <p:nvSpPr>
          <p:cNvPr id="283" name="TextBox 4"/>
          <p:cNvSpPr/>
          <p:nvPr/>
        </p:nvSpPr>
        <p:spPr>
          <a:xfrm>
            <a:off x="5076720" y="4869000"/>
            <a:ext cx="3926160" cy="1144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Zajtrk naj predstavlja približno 20% vseh dnevnih energijskh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00000"/>
                </a:solidFill>
                <a:latin typeface="Calibri"/>
              </a:rPr>
              <a:t>potreb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6140520" y="1628640"/>
            <a:ext cx="2857320" cy="42865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Calibri"/>
              </a:rPr>
              <a:t>Nekaj predlogov tradicionalnih slovenskih zajtrkov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1344240"/>
            <a:ext cx="67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črn kruh, maslo, med, jabolko, mlek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ajdov kruh, med, kislo mleko ali navadni jogurt, jabolko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 kruh, skuta, korenček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rosena mlečna kaša s suhimi slivami in medom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mlečni zdrob z rozinami, hrušk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nozrnat kruh, maslo, marmelada, kaki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bel kruh, umešano jajce, kisla kumarica, nesladkan ča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polenta z mlekom, slive ali ka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ovseni kosmiči na mleku z mletimi lešniki, narezano sezonsko sadje, vo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Pomen uravnotežene preh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714240" y="15717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obdobku odraščanja je uravnoteženo prehranjevanje pomembno, ker na eni strani omogoča optimalno zdravje, rast in intelektulanni razvoj, po drugi strani pa preprečuje nastanek zdravstvenih problemov in z njimi v otroštvu ali odrasli dobi povezane bolezn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357880" y="2000160"/>
            <a:ext cx="33336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714240" y="1571760"/>
            <a:ext cx="789012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gradbeni material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V času rasti in razvoja hitro rastemo, obenem se naše telo nenehno obnavlja. V nekaj letih podvojimo telesno težo. Le dobro zgrajeno telo bo znalo delovalo tako kot je treba in ustreči vsem našim željam po gibanju, uporabi moči in vztrajnosti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Trdne kosti bodo premikale naše mišice, srce črpalo zdravo kri, prebavila pa nas bodo oskrbovala s potrebnimi hranili. In seveda možgani, v katerih se bo kar bliskalo.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oljeZBesedilom 1"/>
          <p:cNvSpPr/>
          <p:nvPr/>
        </p:nvSpPr>
        <p:spPr>
          <a:xfrm>
            <a:off x="250920" y="5805360"/>
            <a:ext cx="8497800" cy="76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Calibri"/>
              </a:rPr>
              <a:t>Če pojemo več hrane, kot jo porabimo, se bomo redili, če pojemo manj, kot jo porabimo, pa bomo shujšal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336600"/>
                </a:solidFill>
                <a:latin typeface="Calibri"/>
              </a:rPr>
              <a:t>Zakaj jemo vsak d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714240" y="1571760"/>
            <a:ext cx="789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500" spc="-1" strike="noStrike" u="sng">
                <a:solidFill>
                  <a:srgbClr val="000000"/>
                </a:solidFill>
                <a:uFillTx/>
                <a:latin typeface="Calibri"/>
              </a:rPr>
              <a:t>Hrana je vir energij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Energijo potrebujemo za to, da lahko karkoli počnemo, dihamo, plešemo, se smejemo, razmišljamo, se kregamo, skratka vse kar nama pade na pamet. Za vse to potrebujemo energijo, ki jo v obliki hrane in pijače zaužijemo vsak dan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500" spc="-1" strike="noStrike">
                <a:solidFill>
                  <a:srgbClr val="000000"/>
                </a:solidFill>
                <a:latin typeface="Calibri"/>
              </a:rPr>
              <a:t>Koliko energije potrebujemo je odvisno od naše presnove, pri kateri porabljamo energijo v mirovanju  za dihanje, črpanje krvi, prebavo... in pri naših dnevnih aktivnostih (delo, šport…)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6886440" y="0"/>
            <a:ext cx="2198880" cy="2133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0d0d0d"/>
                </a:solidFill>
                <a:latin typeface="Calibri"/>
              </a:rPr>
              <a:t>Kakšno hrano potrebujemo, da zadostimo potrebam po energiji in gradbenem materialu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2080" y="1628640"/>
            <a:ext cx="8702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estra mešana prehrana, sestavljena iz kombinacije različnih živil iz vseh priporočenih skupin živil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uživanje več manjših, pogostejših dnevnih obrokov (4 do 5), od katerih je </a:t>
            </a:r>
            <a:r>
              <a:rPr b="1" lang="sl-SI" sz="2200" spc="-1" strike="noStrike">
                <a:solidFill>
                  <a:srgbClr val="0d0d0d"/>
                </a:solidFill>
                <a:latin typeface="Calibri"/>
              </a:rPr>
              <a:t>najpomembnejši zajtrk</a:t>
            </a: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polnovredna žita in žitne izdelke (kaše, testenine, riž), ki so vir energij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mleko in mlečne izdelke, ribe, puste vrste mesa in stročnice, ki so pomembni gradniki teles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maščob, zlasti kakovostne maščobe, kot so različne vrste ol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sadja in /ali zelenjave (4-5 porcij dnevno), s čimer zagotovimo dovolj vitaminov, mineralov, vlaknine…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dovolj tekočin, zlasti vode, nesladkanega čaja in sadnih sokov (razredčenih z vodo), s čimer zagotovimo delovanje vseh telesnih funkcij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d0d0d"/>
                </a:solidFill>
                <a:latin typeface="Calibri"/>
              </a:rPr>
              <a:t>zmerno količino sol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336600"/>
                </a:solidFill>
                <a:uFillTx/>
                <a:latin typeface="Calibri"/>
              </a:rPr>
              <a:t>Vse, kar jemo, učinkuje na naše t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to je pomembno, da v obdobju otroštva in najstništva jemo zdravo. Prehranjevanje lahko vpliva na našo (samo)podobo in počutje, pa tudi na zdravje v kasnejših leti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Enako velja za gibanj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d0d0d"/>
                </a:solidFill>
                <a:latin typeface="Calibri"/>
              </a:rPr>
              <a:t>Za zdravo prehranjevanje je pomembno tudi, da se prehranjujemo sproščeno in ob jedi uživamo - v miru, brez hrupa, sede, v prijetni družb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d0d0d"/>
                </a:solidFill>
                <a:latin typeface="Calibri"/>
              </a:rPr>
              <a:t>Prehranjevanje po prehranski piramid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042920" y="758880"/>
          <a:ext cx="7135920" cy="60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58880"/>
                    <a:ext cx="7135920" cy="60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Posledice neustrezne prehran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4200" y="1356840"/>
            <a:ext cx="67341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Neuravnotežena prehrana in slabe prehranjevalne navade so lahko glavni </a:t>
            </a: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vzr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odhranjenosti,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ki se lahko pokaže že zelo hitro (pomanjkanje določenih vitaminov in mineralov, npr. slabokrvno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prekomerne telesne teže in debelosti. 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V letih 1987-2007 je narasel delež prekomerno težkih in debelih v starostni skupini od 6 do 19 let s 15,6 % pri fantih in dekletih na že 28,9 % pri fantih in 24,1 % pri dekletih. (</a:t>
            </a:r>
            <a:r>
              <a:rPr b="0" i="1" lang="sl-SI" sz="1500" spc="-1" strike="noStrike">
                <a:solidFill>
                  <a:srgbClr val="000000"/>
                </a:solidFill>
                <a:latin typeface="Calibri"/>
              </a:rPr>
              <a:t>Vir: Kovač, Strel, Fakulteta za šport. 2009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 u="sng">
                <a:solidFill>
                  <a:srgbClr val="000000"/>
                </a:solidFill>
                <a:uFillTx/>
                <a:latin typeface="Calibri"/>
              </a:rPr>
              <a:t>slabšega počutja in razpoloženja</a:t>
            </a:r>
            <a:r>
              <a:rPr b="0" lang="sl-SI" sz="2200" spc="-1" strike="noStrike">
                <a:solidFill>
                  <a:srgbClr val="000000"/>
                </a:solidFill>
                <a:latin typeface="Calibri"/>
              </a:rPr>
              <a:t>, težjega reševanja nalog in težjega premagovanje telesnih naporov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"/>
          <p:cNvPicPr/>
          <p:nvPr/>
        </p:nvPicPr>
        <p:blipFill>
          <a:blip r:embed="rId1"/>
          <a:stretch/>
        </p:blipFill>
        <p:spPr>
          <a:xfrm>
            <a:off x="6715080" y="1679400"/>
            <a:ext cx="236556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500" spc="-1" strike="noStrike">
                <a:solidFill>
                  <a:srgbClr val="000000"/>
                </a:solidFill>
                <a:latin typeface="Constantia"/>
              </a:rPr>
              <a:t>Ali se otroci in mladostniki prehranjujejo zdravo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8000" y="1500120"/>
            <a:ext cx="6480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uživajo premalo zelenjave ter rib, dekleta p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tudi premalo mleka in mlečnih izdelkov ter mesa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prepogosto posegajo po visoko kaloričnih izdelkih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 ki so hranilno revni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p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ogosto posegajo po sladkih in slanih prigrizkih ter 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sladkanih pijačah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zaužijejo manjše število dnevnih obrokov od priporočenega, obenem se prehranjujejo neredno; </a:t>
            </a:r>
            <a:r>
              <a:rPr b="1" lang="sl-SI" sz="2300" spc="-1" strike="noStrike" u="sng">
                <a:solidFill>
                  <a:srgbClr val="0d0d0d"/>
                </a:solidFill>
                <a:uFillTx/>
                <a:latin typeface="Calibri"/>
                <a:ea typeface="Times New Roman"/>
              </a:rPr>
              <a:t>najpogosteje opuščajo zajtrk</a:t>
            </a:r>
            <a:r>
              <a:rPr b="0" lang="sl-SI" sz="2300" spc="-1" strike="noStrike">
                <a:solidFill>
                  <a:srgbClr val="0d0d0d"/>
                </a:solidFill>
                <a:latin typeface="Calibri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nimajo ustreznih navad pitja, pogosto so žejni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d0d0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300" spc="-1" strike="noStrike">
                <a:solidFill>
                  <a:srgbClr val="0d0d0d"/>
                </a:solidFill>
                <a:latin typeface="Calibri"/>
                <a:ea typeface="Times New Roman"/>
              </a:rPr>
              <a:t>slaba samopodoba predvsem deklet (se ocenjuje, da so predebele, so na shujševalni dieti, ali celo menijo, da bi morale shujšati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Vir: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700" spc="-1" strike="noStrike">
                <a:solidFill>
                  <a:srgbClr val="000000"/>
                </a:solidFill>
                <a:latin typeface="Calibri"/>
              </a:rPr>
              <a:t>HBSC in druge presečne raziska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6500880" y="2214720"/>
            <a:ext cx="25178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1:07:13Z</dcterms:created>
  <dc:creator>Matej Gregorič</dc:creator>
  <dc:description/>
  <dc:language>en-US</dc:language>
  <cp:lastModifiedBy>MKGP</cp:lastModifiedBy>
  <dcterms:modified xsi:type="dcterms:W3CDTF">2011-10-10T06:47:10Z</dcterms:modified>
  <cp:revision>220</cp:revision>
  <dc:subject/>
  <dc:title>Diapozitiv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